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58B8-8956-4F03-9519-E57C9DE0D25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1AEB-ACEB-45C0-951D-737847DC2573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48F9-137F-4199-AF6E-F6D4FB5CF424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AE5D-6734-4F73-BFB3-C2AA796CEEE3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B650-DDF7-42C9-8C91-DC09B7AAA948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CBED-DEE3-4EAF-A7FE-3C95BCAA3160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AA79-092D-4A58-A6BB-EF0EE5363300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5FD4-DFF2-4843-8690-0DE28837C1B9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26B-8919-419F-AD69-5D5944C3A3D2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EB75-97F0-4454-BC3D-D8CBDB847D74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FB10-0D71-41AA-8853-9D2750270BBB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8DAE-A610-4B72-9A80-611DFD3EE4CD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61B-B986-4E36-A014-4FCED3F689F9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98B4-B630-4035-80FD-7B7538E9BD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0A8E-E3BB-4D07-AAB7-76B8724CDB13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2285-AF58-475A-86F6-61F2C876C2B4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8C6C-3FA1-448B-9702-61F9507CD999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5DC-B8DE-4BD8-9D57-1E1A44EA4DF0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B8A9-191C-413E-8C11-68697F041E50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F59-EBC7-4C84-B756-33D7D0253D1F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53E0-22BA-479E-9D73-6781C62EE6B7}" type="slidenum">
              <a:rPr b="0" lang="es-P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A42-B519-4A5E-8430-D01A8FB8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57A-BA5A-4DA4-990B-B895D597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FC9-4A3C-472A-8C76-06D41E83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B72-06A0-48B9-A484-9C7C11E8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EC8C-DABD-46E6-A48D-63E72DA4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57AC-6D0E-495E-89FF-02F2F012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4BCA-511E-4225-A15C-795BAC79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5CDF-3EBF-4685-A534-4EA67D83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938E-64E2-462A-8F55-DBE7EBA9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947A-A021-4C62-8EE2-125A11FE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3405-8BDA-47BC-9124-19EEE0E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1E7-ACE9-43D1-97FB-BEF8829A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7CD9-92B7-49A9-A7E5-596E5D6E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F489-5CA5-4036-95C6-8B44E5C9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88C4-B9A4-427E-8AF1-1BE29544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3473-CEDD-40AD-936F-67125C75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2383-E38C-4208-AE37-76775A52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39F1D-5022-4B5B-8F3E-F6359D2A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A217-49A6-4AF9-8CE3-4A1B86A6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476C-0867-4644-8A89-E294E19F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18D5-FB83-448C-BA44-1A936C4C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2543-04C9-4D63-8999-0076B19D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AE9-26B5-4304-9F60-C1622DDD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2590-F21E-4596-9DC6-F220904E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1CE4-1840-4F79-B5E9-AB918184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5387-504E-4158-8ED4-69F9439C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652F-C5C8-4293-AA96-634BCEEA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8761-A2F2-4C41-AE01-ABEF42CC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9C3BD-7B1B-4640-ADDF-F14363A0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5A853-BEFD-4A0E-8CBE-4274715B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3629-89DA-4AEC-8907-708E1C3B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F300-FC2A-4697-A085-05361084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BAAC-A3F7-4E38-ADA2-BDC6890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AE6-9803-4F37-8A09-D32F572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FD9D-C894-457F-807D-1454A192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AAED5-8FD4-4DD3-B6F8-9C0C52C4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42E1-F9F8-4D24-B544-A7DC4916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17D6-097A-4BA3-97F2-FB34DDD8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EACD2-7777-46DF-ADDD-5333B4B6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E3CF-A573-448A-8F89-42043C2B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2EB65-89AE-4146-B23B-872BC3DB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EA1A-D6DD-47FD-928A-E8BAF2F0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A17B0-6A8A-4B68-8964-D98D234D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AEB893-702F-4754-A58B-0F1F5E3A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847-1D2F-4E98-AB09-7A8E9BE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0BF029-E06A-48B7-99EE-F306CC9D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922F0-5294-4930-88E5-C74468D7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891AC-5B25-478E-BB6F-35057F25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28CD4-2098-4D7A-8158-2D094588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B36BB-F445-4F09-938C-AC1ADA17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27600-1044-4F59-9BAC-CAC1DA7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6BB7B-0079-408F-ADAF-46C29707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3D55E-3FDD-4113-9C60-C9CA61BC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92D40-F64F-46AC-BE0D-0EE0CA74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DF3B2-98E7-43C2-87DE-0CEBE13B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549-AFC0-4E7B-8B71-2AD6C916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3E251-88D3-4C43-AF3D-CCA3AF97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6FD-F2F0-4C12-9FD9-6A535109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47E-C7B6-46E5-ADAB-3C774786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D84-84F4-41F3-97F5-758DFE93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40C6-E405-4E1B-B9D8-E39A3EAF56D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3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2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A171-0FD8-497E-AD7B-803C8325BD1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8A00-F3CA-4AA4-B4DD-52A13620CC33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5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5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74AC-B254-4CB3-BB2E-DD7F8F7CA33B}" type="slidenum">
              <a:rPr b="0" lang="es-MX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0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0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0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90FC-C5A1-4326-AC3A-47D2136D58A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FINIENDO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Dra. Yolanda Ramírez Villacor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LEMENTOS COMPONENTES DE LA CULTURA: </a:t>
            </a:r>
            <a:r>
              <a:rPr b="1" i="1" lang="es-ES_tradnl" sz="2800" spc="-1" strike="noStrike" u="sng">
                <a:solidFill>
                  <a:srgbClr val="ff0000"/>
                </a:solidFill>
                <a:uFillTx/>
                <a:latin typeface="Tahoma"/>
              </a:rPr>
              <a:t>INSTITUCION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4920" y="1844640"/>
            <a:ext cx="8559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GLAS O NORMAS QUE RIGEN LA CONDUCTA. IMPREGNAN TODOS LOS CAMPOS DE LA VIDA SOCIAL. LAS NORMAS SOCIALES SE HAN DIVIDIDO E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USOS POPULAR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SON APROPIADAS PERO NO OBLIGATO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MORES O COSTUMBR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SE SANCIONA MORAL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HABIT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SON LOS USOS ESTABLECIDOS POR EL TIEMPO. SON SANCIONADAS POR LA TRADICIO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Arial"/>
              </a:rPr>
              <a:t>LEY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REGLAS ESTABLECIDAS POR AQUELLOS QUE EJERCEN EL PODER POLITICO Y SU OBLIGATORIEDAD SE GARANTIZA CON EL APARATO ESTATAL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LEYES PUEDEN SER CONSUETUDINARIAS Y PROMULG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84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LEMENTOS COMPONENTES DE LA CULTURA: </a:t>
            </a:r>
            <a:r>
              <a:rPr b="1" i="1" lang="es-ES_tradnl" sz="2800" spc="-1" strike="noStrike" u="sng">
                <a:solidFill>
                  <a:srgbClr val="ff0000"/>
                </a:solidFill>
                <a:uFillTx/>
                <a:latin typeface="Tahoma"/>
              </a:rPr>
              <a:t>IDE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ahoma"/>
              </a:rPr>
              <a:t>CONOCIMIENTOS Y CREENCIAS DE TODAS CLASE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: TEOLOGICAS, FILOSOFICAS, CIENTIFICAS, TECNOLOGICAS, HISTORICAS, SOCIOLOGICA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0000"/>
                </a:solidFill>
                <a:uFillTx/>
                <a:latin typeface="Tahoma"/>
              </a:rPr>
              <a:t>CREENCIAS QUE EL HOMBRE TIENE SOBRE SI MISMO Y SOBRE EL MUNDO SOCIAL</a:t>
            </a:r>
            <a:r>
              <a:rPr b="1" i="1" lang="es-ES_tradnl" sz="20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1" i="1" lang="es-ES_tradnl" sz="2000" spc="-1" strike="noStrike" u="sng">
                <a:solidFill>
                  <a:srgbClr val="ff0000"/>
                </a:solidFill>
                <a:uFillTx/>
                <a:latin typeface="Tahoma"/>
              </a:rPr>
              <a:t>BIOLOGICO Y FISICO EN EL QUE VIVE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. TAMBIEN SOBRE SUS RELACIONES CON SUS SEMEJANTES, CON LA SOCIEDAD, CON LA NATURALEZ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ahoma"/>
              </a:rPr>
              <a:t>VALORE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: PATRONES E IDEALES CON LOS CUALES DEFINEN SUS FINES, SELECCIONAN SUS ACTOS Y SE JUZGAN A ELLOS MISMOS Y A LOS OTROS: EXITO, RACIONALIDAD, HONOR, VALOR, PATRIOTISMO, LEALTAD, EFICI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ALORES: SE REPRESENTAN EN APROBACION Y DESAPROBACION, JUICIO SOBRE LO BUENO Y LO MALO, LO DESEABLE Y LO INDESE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ELEMENTOS COMPONENTES DE LA CULTURA: </a:t>
            </a:r>
            <a:r>
              <a:rPr b="1" i="1" lang="es-ES_tradnl" sz="2800" spc="-1" strike="noStrike" u="sng">
                <a:solidFill>
                  <a:srgbClr val="ff0000"/>
                </a:solidFill>
                <a:uFillTx/>
                <a:latin typeface="Tahoma"/>
              </a:rPr>
              <a:t>PRODUCTOS MATERIA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82600" y="2233440"/>
            <a:ext cx="720576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ULTURA MATERIAL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AS MATERIALES QUE EL HOMBRE CREA Y UTILIZ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ESTA AISLADO DE LO IN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Política de la Cultu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42600" y="2017800"/>
            <a:ext cx="831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lica que a través de la cultura se pueden manifestar distintas ideologías y formas de pensar, asimismo comprende sus diversas formas y medios de asignar el poder y la toma de decision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tre otras cosas, incluye los tipos de gobierno y los sistemas de gestión. También la forma en que grupos pequeños de personas toman decisiones cuando no existe un líder reconoc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Económica de la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rende sus diversas formas y medios de producción y asignación de los bienes y servicios útiles y limitados (riqueza), ya sea a través de regalos, obligaciones, trueque, comercio o asignaciones de propiedad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Social de la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85880" y="2017800"/>
            <a:ext cx="816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a componen las formas en las que la gente actúa, se relaciona con los demás, reacciona y cómo espera que los demás actúen y se relacionen. Esto incluye instituciones como el matrimonio o la amistad, roles como el de madre u oficial de policía, estatus o clase, y otros patrones de comportamiento human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Tecnológica y Científica de la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57160" y="2017800"/>
            <a:ext cx="809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onstituyen las herramientas y conocimientos, y su forma de relacionarse con su entorno físico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conexión entre la humanidad y la naturaleza, las ideas aprendidas y los comportamientos que permiten al hombre inventar las herramientas, utilizarlas y enseñar a los demás sus conocimientos sobre ella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cultura aglutina como un compendio todos los avances y los descubrimientos científico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Estética y de Valores de la Cultu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la estructura de ideas, a veces paradójicas inconsistentes o contradictorias que tiene la gente sobre lo bueno y lo malo, lo bonito y lo feo, el bien y el mal, que son las justificaciones que cada persona cita para explicar sus ac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Dimensión Conceptual y de Creencias de la Cul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nstituye la estructura de las ideas, también a veces contradictorias, que la gente tiene sobre la naturaleza del universo, del mundo que le rodea, su papel en él, su causa y efecto, la naturaleza del tiempo y la materia y sus comportamiento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108000" y="2590920"/>
            <a:ext cx="2448000" cy="126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473280" y="130320"/>
            <a:ext cx="5670720" cy="64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PRODUCTO, CARACTERISTICAMENTE HUMANO, DE LA INTERACCION SOCI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PROPORCIONA PAUTAS SOCIALMENTE ACEPTADAS PARA HACER FRENTE A LAS NECESIDADES BIOLOGICAS Y SOCI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ACUMULATIVA Y SE TRANSMITE DE GENERACION EN GENERACION, DENTRO DE UNA SOCIEDAD DETERMIN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TIENE SENTIDO PARA EL SER HUMANO, POR SU CONDICION SIMBOLIC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APRENDEN LOS INDIVIDUOS DURANTE SU EVOLUCION EN UNA SOCIEDAD DETERMIN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S DETERMINANTE BASICO DE LA PERSONA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PENDE DEL FUNCIONAMIENTO CONTINUADO DE LA SOCIEDAD, PERO ES INDEPENDIENTE DE CUALQUIER INDIVIDUO O GRUPO AISL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08000" y="2666880"/>
            <a:ext cx="261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SUMIENDO, PODEMOS DECIR QUE  LA CULTUR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7"/>
          <p:cNvSpPr/>
          <p:nvPr/>
        </p:nvSpPr>
        <p:spPr>
          <a:xfrm flipV="1">
            <a:off x="1908000" y="549360"/>
            <a:ext cx="1511640" cy="1727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8"/>
          <p:cNvSpPr/>
          <p:nvPr/>
        </p:nvSpPr>
        <p:spPr>
          <a:xfrm flipV="1">
            <a:off x="2411280" y="1341000"/>
            <a:ext cx="1008360" cy="1079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9"/>
          <p:cNvSpPr/>
          <p:nvPr/>
        </p:nvSpPr>
        <p:spPr>
          <a:xfrm flipV="1">
            <a:off x="2771640" y="216648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2863800" y="3213000"/>
            <a:ext cx="609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2843280" y="3616200"/>
            <a:ext cx="576360" cy="389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484360" y="4022640"/>
            <a:ext cx="935280" cy="701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1979640" y="4073400"/>
            <a:ext cx="1224000" cy="137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FINICIONES DE CULTUR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68360" y="1197000"/>
            <a:ext cx="8207280" cy="496872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403280" y="1981080"/>
            <a:ext cx="728352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cc"/>
                </a:solidFill>
                <a:latin typeface="Tahoma"/>
              </a:rPr>
              <a:t>Edward Tyl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00cc"/>
                </a:solidFill>
                <a:latin typeface="Tahoma"/>
              </a:rPr>
              <a:t>“… </a:t>
            </a:r>
            <a:r>
              <a:rPr b="0" lang="es-MX" sz="3200" spc="-1" strike="noStrike">
                <a:solidFill>
                  <a:srgbClr val="0000cc"/>
                </a:solidFill>
                <a:latin typeface="Tahoma"/>
              </a:rPr>
              <a:t>el conjunto complejo que incluye conocimiento, creencias, arte, moral,ley, costumbres y otras capacidades y hábitos adquiridos por el hombre como miembro de la sociedad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3 Rectángulo" descr=""/>
          <p:cNvPicPr/>
          <p:nvPr/>
        </p:nvPicPr>
        <p:blipFill>
          <a:blip r:embed="rId1"/>
          <a:stretch/>
        </p:blipFill>
        <p:spPr>
          <a:xfrm>
            <a:off x="1054080" y="1414440"/>
            <a:ext cx="6078600" cy="348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mains-05"/>
          <p:cNvPicPr/>
          <p:nvPr/>
        </p:nvPicPr>
        <p:blipFill>
          <a:blip r:embed="rId2"/>
          <a:stretch/>
        </p:blipFill>
        <p:spPr>
          <a:xfrm>
            <a:off x="6215040" y="4357800"/>
            <a:ext cx="1646280" cy="1582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FINICIONES DE CULTUR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68360" y="1197000"/>
            <a:ext cx="8207280" cy="496872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403280" y="1981080"/>
            <a:ext cx="728352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2060"/>
                </a:solidFill>
                <a:latin typeface="Tahoma"/>
              </a:rPr>
              <a:t>Clyde Kluckhoh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es-MX" sz="3200" spc="-1" strike="noStrike">
                <a:solidFill>
                  <a:srgbClr val="002060"/>
                </a:solidFill>
                <a:latin typeface="Tahoma"/>
              </a:rPr>
              <a:t>“…</a:t>
            </a:r>
            <a:r>
              <a:rPr b="0" lang="es-MX" sz="3200" spc="-1" strike="noStrike">
                <a:solidFill>
                  <a:srgbClr val="002060"/>
                </a:solidFill>
                <a:latin typeface="Tahoma"/>
              </a:rPr>
              <a:t>todos los modelos de vida históricamente creados, explícitos e implícitos, racionales, irracionales y no racionales, que existen en cualquier tiempo determinado como guías potenciales del comportamiento de los hombre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5"/>
          <p:cNvSpPr/>
          <p:nvPr/>
        </p:nvSpPr>
        <p:spPr>
          <a:xfrm>
            <a:off x="684360" y="3141720"/>
            <a:ext cx="8208720" cy="3456000"/>
          </a:xfrm>
          <a:prstGeom prst="foldedCorner">
            <a:avLst>
              <a:gd name="adj" fmla="val 12500"/>
            </a:avLst>
          </a:prstGeom>
          <a:solidFill>
            <a:srgbClr val="99cc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4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Desde lo teórico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82600" y="191628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s culturas son productos sociales que representan la capacidad de relación y respuestas de cada sociedad a su situación concreta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6920" y="3328920"/>
            <a:ext cx="7777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ncontramos en las culturas reales tres dimens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na producción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n sistema de relaciones y comunicación entre sus miemb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Una ideología y un sistema de valores, normas y sanciones que organizan, enlazan y jerarquizan los dos campos anteriores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179280" y="299412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Franklin Gothic Demi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2989440" y="785880"/>
            <a:ext cx="6190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PRODUCTO DE LA INTERACCION SOCIAL DE GRU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FORMA DE VIDA DE LA SOCIEDAD, UN MODO DE PENSAR, DE ACTUAR Y DE SENT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RIGE LA RELACION HOMBRE-MEDIO AMBIENTE; PERMITIENDO LIBERAR AL HOMBRE DE LA DEPENDENCIA MECANICA DEL AMB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DEFINE LOS PATRONES DE INTERACCION SOCIAL Y DE RELACIONES SOCIALES. ESTO LO HACE A TRAVES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NOR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 Black"/>
              </a:rPr>
              <a:t>CRE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1835280" y="1196640"/>
            <a:ext cx="1081080" cy="1584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2125800" y="2276280"/>
            <a:ext cx="863640" cy="86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2195640" y="3357720"/>
            <a:ext cx="863640" cy="502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13"/>
          <p:cNvSpPr/>
          <p:nvPr/>
        </p:nvSpPr>
        <p:spPr>
          <a:xfrm>
            <a:off x="1835280" y="3860640"/>
            <a:ext cx="1081080" cy="1152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0"/>
          <p:cNvSpPr/>
          <p:nvPr/>
        </p:nvSpPr>
        <p:spPr>
          <a:xfrm>
            <a:off x="4788000" y="2276640"/>
            <a:ext cx="4105080" cy="2304720"/>
          </a:xfrm>
          <a:prstGeom prst="downArrowCallout">
            <a:avLst>
              <a:gd name="adj1" fmla="val 44533"/>
              <a:gd name="adj2" fmla="val 44529"/>
              <a:gd name="adj3" fmla="val 16667"/>
              <a:gd name="adj4" fmla="val 66667"/>
            </a:avLst>
          </a:prstGeom>
          <a:solidFill>
            <a:srgbClr val="00e4a8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611280" y="2349360"/>
            <a:ext cx="3168720" cy="1224000"/>
          </a:xfrm>
          <a:prstGeom prst="downArrowCallout">
            <a:avLst>
              <a:gd name="adj1" fmla="val 64726"/>
              <a:gd name="adj2" fmla="val 64721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63760" y="463680"/>
            <a:ext cx="76802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CARACTERISTICAS DE LA CULTU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755640" y="24703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COMPORTAMIENTO APREND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900000" y="403848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CONJUNTO DE CONDUCTAS ADQUIRIDAS A LO LARGO DE TODA LA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932360" y="239724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DERIVA DE LOS COMPONENTES BIOLOGICOS, AMBIENTALES, PSICOLOGICOS E HISTORIC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DE LA EXISTENCIA HUMA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148360" y="486900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 DEBE DISTINGUIR ENTRE LA SITUACION NATURAL Y LA SITUACION SOC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8"/>
          <p:cNvSpPr/>
          <p:nvPr/>
        </p:nvSpPr>
        <p:spPr>
          <a:xfrm>
            <a:off x="4859280" y="2349360"/>
            <a:ext cx="4033800" cy="1511280"/>
          </a:xfrm>
          <a:prstGeom prst="downArrowCallout">
            <a:avLst>
              <a:gd name="adj1" fmla="val 66734"/>
              <a:gd name="adj2" fmla="val 66728"/>
              <a:gd name="adj3" fmla="val 16667"/>
              <a:gd name="adj4" fmla="val 66667"/>
            </a:avLst>
          </a:prstGeom>
          <a:blipFill rotWithShape="0">
            <a:blip r:embed="rId1">
              <a:alphaModFix amt="51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611280" y="2349360"/>
            <a:ext cx="3600360" cy="1800360"/>
          </a:xfrm>
          <a:prstGeom prst="downArrowCallout">
            <a:avLst>
              <a:gd name="adj1" fmla="val 50000"/>
              <a:gd name="adj2" fmla="val 49995"/>
              <a:gd name="adj3" fmla="val 16667"/>
              <a:gd name="adj4" fmla="val 6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63760" y="463680"/>
            <a:ext cx="76802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CARACTERISTICAS DE LA CULTU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55640" y="24703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CUMULATIVA Y SE PUEDE TRANSMITIR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DE GENERACION EN GENERAC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900000" y="4340160"/>
            <a:ext cx="33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A SIMBOLIZACION FACILITA Y HACE POSIBLE ESTA CUALIDAD DE LA CUL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4932360" y="239724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APRENDIDA Y COMPARTI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ES HERENCIA SOC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148360" y="4341960"/>
            <a:ext cx="3456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REFLEJOS E IDIOSINCRACIA PERSONAL SON INFLUIDAS O MODIFICADAS POR LA CULTU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8"/>
          <p:cNvSpPr/>
          <p:nvPr/>
        </p:nvSpPr>
        <p:spPr>
          <a:xfrm>
            <a:off x="4716360" y="2276640"/>
            <a:ext cx="3240360" cy="1223640"/>
          </a:xfrm>
          <a:prstGeom prst="downArrowCallout">
            <a:avLst>
              <a:gd name="adj1" fmla="val 66209"/>
              <a:gd name="adj2" fmla="val 66203"/>
              <a:gd name="adj3" fmla="val 16667"/>
              <a:gd name="adj4" fmla="val 6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1280" y="2276640"/>
            <a:ext cx="3240000" cy="1223640"/>
          </a:xfrm>
          <a:prstGeom prst="downArrowCallout">
            <a:avLst>
              <a:gd name="adj1" fmla="val 66202"/>
              <a:gd name="adj2" fmla="val 66196"/>
              <a:gd name="adj3" fmla="val 16667"/>
              <a:gd name="adj4" fmla="val 66667"/>
            </a:avLst>
          </a:prstGeom>
          <a:solidFill>
            <a:srgbClr val="02e2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63760" y="463680"/>
            <a:ext cx="76802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CARACTERISTICAS DE LA CULTU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755640" y="2470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ESTRUCTURA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00000" y="3838680"/>
            <a:ext cx="29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IENDO UN TODO INTEGRADO EN RASGOS, COMPLEJOS Y PATRONES O INSTITU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5292720" y="2492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DINAM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859280" y="3878280"/>
            <a:ext cx="36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CAMBIA DESDE DENTRO POR DESCUBRIMIENTO E INVENCION Y DESDE FUERA POR PRESTAMO Y TRANSMISION CULTU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8"/>
          <p:cNvSpPr/>
          <p:nvPr/>
        </p:nvSpPr>
        <p:spPr>
          <a:xfrm>
            <a:off x="5076720" y="2276640"/>
            <a:ext cx="3456000" cy="1152360"/>
          </a:xfrm>
          <a:prstGeom prst="downArrowCallout">
            <a:avLst>
              <a:gd name="adj1" fmla="val 74983"/>
              <a:gd name="adj2" fmla="val 74977"/>
              <a:gd name="adj3" fmla="val 16667"/>
              <a:gd name="adj4" fmla="val 66667"/>
            </a:avLst>
          </a:prstGeom>
          <a:solidFill>
            <a:srgbClr val="d6009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684360" y="2276640"/>
            <a:ext cx="3166920" cy="1152360"/>
          </a:xfrm>
          <a:prstGeom prst="downArrowCallout">
            <a:avLst>
              <a:gd name="adj1" fmla="val 68711"/>
              <a:gd name="adj2" fmla="val 68705"/>
              <a:gd name="adj3" fmla="val 16667"/>
              <a:gd name="adj4" fmla="val 66667"/>
            </a:avLst>
          </a:prstGeom>
          <a:solidFill>
            <a:srgbClr val="d6009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63760" y="463680"/>
            <a:ext cx="768024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3399"/>
                </a:solidFill>
                <a:latin typeface="Tahoma"/>
              </a:rPr>
              <a:t>CARACTERISTICAS DE LA CULTU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971640" y="2470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684360" y="37321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EXPRESION DE SU CUALIDAD DINAMICA: SE EXPRESA EN LA VARIABILIDAD CULTURAL Y EN LA VARIACION EXPRESADA EN DIFERENCIAS DE COMPORTAMIENTOS EN UNA MISMA SOCIE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5146560" y="239724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ELE SER </a:t>
            </a: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ETNOCENTRIS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5148360" y="38988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CONSIDERAR LA CULTURA PROPIA COMO CENTRO DE TODO EL UNIVERSO Y BASE DE TODA COMPARACION CON OTRAS CULTU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8:55:49Z</dcterms:created>
  <dc:creator>Jaime Nalvarte Armas</dc:creator>
  <dc:description/>
  <dc:language>en-US</dc:language>
  <cp:lastModifiedBy>Yolita</cp:lastModifiedBy>
  <dcterms:modified xsi:type="dcterms:W3CDTF">2009-05-16T13:54:45Z</dcterms:modified>
  <cp:revision>39</cp:revision>
  <dc:subject/>
  <dc:title>DEFINIENDO CULTURA</dc:title>
</cp:coreProperties>
</file>